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8F44D-2453-4CBB-8031-054F261F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DAC19-1592-4041-870F-12AF3958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3238E-12F3-49E7-A355-DD84FB92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9B748-E4F9-4F07-B5B9-0654B468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C7A7-04FB-45AD-AF0E-EE641871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26C3-6773-40AE-AD46-60C206C4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3FC9-62B5-4A45-9AFF-73F4C82D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285A-0409-44FC-971C-ACC1872A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2F7A-1D51-4503-A833-8855F3A3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DF00-8DAF-48EF-B483-8BB77297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0A7F-5194-4882-9F7A-C1A36433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87979-3717-4D10-BAC8-A1CB7C93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8272-BA1F-4800-9B4E-DE35F5F3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F6BD-7C00-4E10-922B-8D164E47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A479-65A0-4C59-9BBB-CC30FDB2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AEF4-A35C-4DBF-8431-50EC5917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0BC3-4D43-4A78-9180-5011F333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78F38-669A-470B-86C2-6D05B622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BE884-8AB9-4939-94B9-1E06AE9B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F28D3-221D-489E-9702-74862C72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91DDB-15B2-4577-9C3D-F41BFBEA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033F3-2920-46B7-ABF9-740C1B2E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D69B1-F145-4321-9941-79F25017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B4A09-4076-45D1-B14F-4DF97FE4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C5E0-D2A3-4A2B-B6D4-C21D89F6D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EEC4-0B0D-4009-B312-484D2B3FC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3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Garamond"/>
              </a:rPr>
              <a:t>Me llamo _______ Clase 6NH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Garamond"/>
              </a:rPr>
              <a:t>La fecha es el 9 de enero del 2012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Garamond"/>
              </a:rPr>
              <a:t>Propósito # 30:</a:t>
            </a:r>
            <a:r>
              <a:rPr b="0" lang="es-ES_tradnl" sz="32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¿ Cuáles son los pronombres en español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Garamond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s-ES_tradnl" sz="32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0" lang="es-ES_tradnl" sz="3200" spc="-1" strike="noStrike">
                <a:solidFill>
                  <a:srgbClr val="333399"/>
                </a:solidFill>
                <a:latin typeface="Garamond"/>
              </a:rPr>
              <a:t>What is a SUBJECT PRONOUN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 subject pronoun is a word that REPLACES a noun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i.e.             Robert is very smar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He is very smar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4495680"/>
            <a:ext cx="1143000" cy="457200"/>
          </a:xfrm>
          <a:prstGeom prst="ellipse">
            <a:avLst/>
          </a:prstGeom>
          <a:noFill/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360" y="43434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su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5486400"/>
            <a:ext cx="533160" cy="53352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125600">
            <a:off x="1677240" y="504324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re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752480" y="4876560"/>
            <a:ext cx="609840" cy="6094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601992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Pro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Los pronombre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31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Los </a:t>
            </a: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Garamond"/>
              </a:rPr>
              <a:t>pronombres</a:t>
            </a: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 son las palabras que remplazan los nombres o sustantivo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En español, los pronombres son</a:t>
            </a:r>
            <a:r>
              <a:rPr b="0" i="1" lang="es-ES_tradnl" sz="32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6668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32907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*T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242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*É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441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5105520"/>
            <a:ext cx="272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Usted (U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2666880"/>
            <a:ext cx="272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63920" y="327672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8000"/>
                </a:solidFill>
                <a:latin typeface="Verdana"/>
              </a:rPr>
              <a:t>V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191120"/>
            <a:ext cx="272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El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4815000"/>
            <a:ext cx="272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El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5500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Ustedes (Ud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27273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3352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You (famili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3946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4495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577548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You (polite, singul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27273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387036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You (familiar,plu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43434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hey (guys,mix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4876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hey (girls on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608004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You (polite/familiar plur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(You’s gu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20040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5486400"/>
            <a:ext cx="3124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190760" y="3505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190760" y="5943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276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2797200" y="4319280"/>
            <a:ext cx="2362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Verdana"/>
              </a:rPr>
              <a:t>Es lo mis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3200400"/>
            <a:ext cx="1523880" cy="609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419720" y="3200040"/>
            <a:ext cx="1523880" cy="609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838080" cy="633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43000" y="3276720"/>
            <a:ext cx="838080" cy="539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066680" y="3809880"/>
            <a:ext cx="914400" cy="560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990720" y="4419720"/>
            <a:ext cx="914400" cy="565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2590920" y="5029200"/>
            <a:ext cx="914400" cy="779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6172200" y="2514600"/>
            <a:ext cx="655560" cy="685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5410080" y="4191120"/>
            <a:ext cx="1143000" cy="591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5410080" y="4800600"/>
            <a:ext cx="1067040" cy="600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7620120" y="5457960"/>
            <a:ext cx="1066680" cy="637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>
            <a:off x="6705720" y="3325680"/>
            <a:ext cx="914400" cy="560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1"/>
          <a:stretch/>
        </p:blipFill>
        <p:spPr>
          <a:xfrm>
            <a:off x="6400800" y="3346560"/>
            <a:ext cx="83808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00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Garamond"/>
              </a:rPr>
              <a:t>El pronombre </a:t>
            </a:r>
            <a:r>
              <a:rPr b="0" lang="es-ES_tradnl" sz="4400" spc="-1" strike="noStrike">
                <a:solidFill>
                  <a:srgbClr val="008000"/>
                </a:solidFill>
                <a:latin typeface="Garamond"/>
              </a:rPr>
              <a:t>Vosotros</a:t>
            </a:r>
            <a:r>
              <a:rPr b="0" lang="es-ES_tradnl" sz="4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4400" spc="-1" strike="noStrike">
                <a:solidFill>
                  <a:srgbClr val="ff3300"/>
                </a:solidFill>
                <a:latin typeface="Garamond"/>
              </a:rPr>
              <a:t>no lo vamos a usar (por ahora)</a:t>
            </a:r>
            <a:r>
              <a:rPr b="0" lang="es-ES_tradnl" sz="4400" spc="-1" strike="noStrike">
                <a:solidFill>
                  <a:srgbClr val="000000"/>
                </a:solidFill>
                <a:latin typeface="Garamond"/>
              </a:rPr>
              <a:t> porque es lo mismo que 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Garamond"/>
              </a:rPr>
              <a:t>Ustedes.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Garamond"/>
              </a:rPr>
              <a:t>*</a:t>
            </a: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Sin el acento:</a:t>
            </a: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Tu = Your</a:t>
            </a: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El = The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5181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Practica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¿Qué pronombre se usa..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uando habl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d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Rosa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uando habl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con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u hermana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uando habl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d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i mismo y tus amigo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uando habl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con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us padr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uando habl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d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i mism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uando habl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con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a, Rosa &amp; Mia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114800" y="1074600"/>
            <a:ext cx="1219320" cy="754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257800" y="1828800"/>
            <a:ext cx="1143000" cy="736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324480" y="2590920"/>
            <a:ext cx="873360" cy="914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952880" y="3581280"/>
            <a:ext cx="1219320" cy="728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4648320" y="4343400"/>
            <a:ext cx="914400" cy="6904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5867280" y="5334120"/>
            <a:ext cx="144792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Tarea # 30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mpleta la hoja distribuid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4:11:01Z</dcterms:created>
  <dc:creator>Helen Zumaeta</dc:creator>
  <dc:description/>
  <dc:language>en-US</dc:language>
  <cp:lastModifiedBy>Helen Zumaeta</cp:lastModifiedBy>
  <dcterms:modified xsi:type="dcterms:W3CDTF">2012-01-09T04:26:23Z</dcterms:modified>
  <cp:revision>19</cp:revision>
  <dc:subject/>
  <dc:title>Me llamo _______   Clase  6 IM La fecha es el 19 de abril del 2010</dc:title>
</cp:coreProperties>
</file>